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983-DB08-4EB6-BB1E-31A29B32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6FE-0DEA-4D26-A87A-B80C34BA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A68-9B4A-477B-ACF2-4F362525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260-F80D-48B1-8E87-EEB2F787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7AAF-CF28-4FC0-B2FD-56F28498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275-7F88-49EA-BEC7-A2348260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6FB-C7DB-42C1-981E-B8939589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F719-20B3-498D-9B87-2FE9B455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136-791A-4186-AF5C-A706341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B1D-0C6E-4411-A19B-DFBA6F8E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1EB0-BC80-4919-AC7A-F5A27AC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97D-4659-41A5-8E64-D633CBE9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F05-FE88-4DB2-9D77-15432E1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C4E-D94B-49F0-8D4B-5729EAE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675-2486-4EAC-9002-1C23E50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711D-6C70-47DB-9C7C-137C8BBB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0E5-09C6-4555-BB5D-830C4845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8B8-1B3D-4FD6-9B99-E6C7FD48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167-39B6-4B59-98CE-7816D32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8C7-3F0F-4B57-BCF2-1F2F1F6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35A-0223-45FA-9132-C0204CA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66B-292D-466E-846D-A32E737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559-B64E-46AD-8020-23BE4AE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1DC-DB29-4396-91AD-7A7DC49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8DA-B5D6-49CB-9CC3-7BF318832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082-CBD8-4AF1-A882-553EF6164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drock Architectural Q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n Going Discussion of Architectural Issues in the Redrock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“Design by Contra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76720" y="2743200"/>
            <a:ext cx="2349360" cy="240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2480" y="5334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ent 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1280" y="5257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7400" y="53341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8960" y="33847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600" y="3384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“Design by Contract”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and contract (interface) can be developed at different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ient developer doesn’t have to wait for the implementation developer to finish implem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s workflow bottlenecks when working with depend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components can be developed in parallel yielding better through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multiple implementations of the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97180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act (Interf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op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191120"/>
            <a:ext cx="17524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oting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75248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ck Proxy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t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91320"/>
            <a:ext cx="28191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791320"/>
            <a:ext cx="25146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h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3580920"/>
            <a:ext cx="2133720" cy="2210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790960" y="3276360"/>
            <a:ext cx="1981080" cy="609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352320"/>
            <a:ext cx="1371600" cy="304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09680" y="388620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64796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00" y="39625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curity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ption Handling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formance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ory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0" y="4724280"/>
            <a:ext cx="20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jb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text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binary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ava serialization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services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2743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1640" y="262260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Means impleme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ows for Restricted Roles in Object Desig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implementation developer freedom to extend an implementing object beyond an interface contr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s roles to clien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191120"/>
            <a:ext cx="167652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Valid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191120"/>
            <a:ext cx="25146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hemaSymbolMapProvi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410080"/>
            <a:ext cx="167616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(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114800"/>
            <a:ext cx="16765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16765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ml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ahoma"/>
              </a:rPr>
              <a:t>setSomeDependenc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52574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86040" y="5181120"/>
            <a:ext cx="160020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86600" y="5105520"/>
            <a:ext cx="609480" cy="30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5:12:31Z</dcterms:created>
  <dc:creator>CACI</dc:creator>
  <dc:description/>
  <dc:language>en-US</dc:language>
  <cp:lastModifiedBy>CACI</cp:lastModifiedBy>
  <dcterms:modified xsi:type="dcterms:W3CDTF">2006-10-18T19:22:04Z</dcterms:modified>
  <cp:revision>7</cp:revision>
  <dc:subject/>
  <dc:title>Redrock I8 Code Review</dc:title>
</cp:coreProperties>
</file>